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5DFB-6BE7-4140-BF1B-AF58EFFB6051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66DF-C117-44CB-B123-F19B3D62673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39D3-6E36-48F4-8E2E-67BA2B8CB96C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4227-D62C-4F73-910F-3CDDBD24C37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D132-E612-4DED-BD91-AE9472A77B5E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B6E7-8AAB-4227-BBF9-094FDB0E91C1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ABE1-949A-45E4-9494-1DCFBEF9FB7D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7DB5-6718-45A3-9EF4-052B5E3E85DD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AD39-F77D-4C10-8FF3-046D0DCD7CAC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C805-F89F-4AD1-B6F3-5F0EB8A1BB9C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E172-17DE-40D9-B17F-7CB7CA129AA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58F4-A9E3-4404-8162-9413D3E1695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E08B-9954-425F-9583-8812EF47A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C3B0-8D5C-4D29-A245-78279E78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1E4-6A14-4E77-B863-3FEA88C6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1AA-86E0-491A-8933-EEF1B12B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5D4-5AE4-448E-AC0A-8A76F9FE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02B-1064-4CC8-A9DC-9E98B24B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25F-6046-4962-8D14-464F04E9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78F-72D3-4F42-9D65-2A4017C0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AEB-CD9B-468F-9885-0DC1F06B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011-1349-4707-A94E-8F55CCCE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209B-7CB6-4B8A-90C2-D466C92C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EA2-72BE-4A14-97D6-7FEB7789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7D9F-89AD-47CA-AEFE-DF78194F5069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1000" spc="-1" strike="noStrike">
                <a:solidFill>
                  <a:srgbClr val="990000"/>
                </a:solidFill>
                <a:latin typeface="Arial Narrow"/>
                <a:ea typeface="Courier New"/>
              </a:rPr>
              <a:t>Tam onu aklımdan geçiriyordum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"/>
              </a:rPr>
              <a:t>Aşıyor yüce dağları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"/>
              </a:rPr>
              <a:t>Geziye nereye gidecekler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"/>
              </a:rPr>
              <a:t>Doktor bulamadı bana ilacı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"/>
              </a:rPr>
              <a:t>Uyarı işaretlerine dikkat et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"/>
              </a:rPr>
              <a:t>Mecnun'a dönderdi, </a:t>
            </a:r>
            <a:br>
              <a:rPr sz="9600"/>
            </a:br>
            <a:r>
              <a:rPr b="1" lang="tr-TR" sz="9600" spc="-1" strike="noStrike">
                <a:solidFill>
                  <a:srgbClr val="990000"/>
                </a:solidFill>
                <a:latin typeface="Arial"/>
              </a:rPr>
              <a:t>bu sevda beni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"/>
              </a:rPr>
              <a:t>Duyamazsınız kuş seslerini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37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Baharda hayat çok güzeldir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tırlatacak bize çocukluğumuzu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Hiç kimse ağlamasın yurdumda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ını mıh gibi aklımda tutuyorum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Kara elmas Zonguldak'tan çıkıyor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1000" spc="-1" strike="noStrike">
                <a:solidFill>
                  <a:srgbClr val="990000"/>
                </a:solidFill>
                <a:latin typeface="Arial Narrow"/>
                <a:ea typeface="Courier New"/>
              </a:rPr>
              <a:t>Adam, birkaçını dolaba koydu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1000" spc="-1" strike="noStrike">
                <a:solidFill>
                  <a:srgbClr val="990000"/>
                </a:solidFill>
                <a:latin typeface="Arial Narrow"/>
                <a:ea typeface="Courier New"/>
              </a:rPr>
              <a:t>Ağaçtan indirdik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1000" spc="-1" strike="noStrike">
                <a:solidFill>
                  <a:srgbClr val="990000"/>
                </a:solidFill>
                <a:latin typeface="Arial Narrow"/>
                <a:ea typeface="Courier New"/>
              </a:rPr>
              <a:t>Aklından geçenleri ben bilirim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1000" spc="-1" strike="noStrike">
                <a:solidFill>
                  <a:srgbClr val="990000"/>
                </a:solidFill>
                <a:latin typeface="Arial Narrow"/>
                <a:ea typeface="Courier New"/>
              </a:rPr>
              <a:t>Anam doğurmuş, beni Sivas ilinde.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"/>
              </a:rPr>
              <a:t>Ansızın haykıracağım sana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"/>
              </a:rPr>
              <a:t>Annesini bulamayınca üzülmüş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"/>
              </a:rPr>
              <a:t>Açıyorlar esmer avuçlarını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600" spc="-1" strike="noStrike">
                <a:solidFill>
                  <a:srgbClr val="990000"/>
                </a:solidFill>
                <a:latin typeface="Arial"/>
              </a:rPr>
              <a:t>Babam her sabah yürür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5T17:45:17Z</dcterms:modified>
  <cp:revision>106</cp:revision>
  <dc:subject/>
  <dc:title>KONU 1</dc:title>
</cp:coreProperties>
</file>